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2D8-54D9-401E-BDCF-85348A96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BD6-1C3C-46F4-B49D-29756938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DCBD8-7D01-4505-9032-F335201C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2E672-E12B-46AC-A44B-7345B78E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7812E-5CD3-46DC-AA30-7A65A291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C8C9D-EAF1-43E1-9816-8E233786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5A39D-894F-476D-8E7B-73E85BA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21F7C-0E26-4FD5-9384-1DD719E6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8C927-B6EE-424B-86D8-E24EA8B7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C66BD-F5AE-41D5-A2AD-9046E73A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B0A4F-C01E-4FE6-B90A-59EEC4F8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18E6D-AD3F-4E55-B53B-E69C779D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C78-F9DF-445D-ACE2-A3C44009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4E7E0-F03A-4C0A-A49C-7DB7BBA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9F912-3F04-48FA-AEEE-3059D945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2C8DF-9FA0-4C1E-8C1D-69D4EEC9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C7611-F6FE-4F81-BBBE-88FF9CDE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40A75-388A-4154-97A5-6CCF96A6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60E4D-55F0-44EF-909B-C2CC8FF9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31EE7-3557-45CA-86E8-ACD45C2D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7C6FB-A5AC-47CA-AEE4-D160C62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9FF1B-D878-4557-9261-431E18B4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3D8C2-592E-4361-88AE-1A3E7FE8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FCF-8DED-48B6-8C13-0AF6414C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27931-4E63-4C57-B003-FE3B5976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44CB8-BF57-4338-A273-DC3894DA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DD205-AECD-4E39-B0F9-D81F9DA8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2A6CE-47BD-41C9-AE52-846E6866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6D7A9-667C-4F1F-886A-8664556F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1230E-8B91-4BC0-B5BF-8D9548DE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F74E0-27FA-4D1E-8BFD-5291D63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EC5DB-2C9A-4671-9962-1E9E84F5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42B04-0841-4F10-A2D9-2E4B7FAD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D37AD-48D4-4068-8C0C-3BED2012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3A9C-39E6-498D-B466-AB6EB70E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4CE6C-5CB1-4922-8B9C-2BD62DA5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81E30-7A85-456A-ADD5-E4D25674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7A358-546E-4FD4-8104-C7793882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71151-1CE2-46A8-8F31-B1788601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62881-8B30-489A-98CA-FDD38D13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5F209-B509-452B-B787-6255CD90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5B49B-0C48-45EE-8B92-E7827C37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44741-9421-418F-BAA5-EEF8F7E8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20218-996C-438A-BFE0-7595485E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F4D42-A5AE-469B-9A68-31DFFC8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53E4-6ACD-40A0-A44F-6865F29D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EA72E-12F8-4911-84F9-568A382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71FB2-2B13-46B7-8DEC-43204C5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04008-D303-4FC2-BB2F-8B6F7E54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7AEE4-F105-4A5C-B3B8-7EE1250E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D2D37-6C5C-4742-88F9-D08D8ABB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9678A-ADB2-4F1E-8C60-56572377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A76FA-8470-45CB-86FC-D8307B3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2571A-8BD7-494D-8A75-8D6FEB54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48839-DA99-4AB7-9331-639395FC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C2BD7-EB96-4791-B143-2D49B65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4ACE-1E65-456A-AF17-6803A8DA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BEA4D-AF3A-4DF8-85DA-166E559F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3EE98-2514-4628-9724-A411BDDB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978E6-A609-42DC-BF15-AE67499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28A18-643D-49B5-BEB3-4B704168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6525F-E60F-4632-AC8C-474E861D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4323C-6BFF-4BB6-B5D6-C7DD10C7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7EE1D-D5E4-4A8E-A52F-E4FCBD32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C217A-3F3C-4FFF-AC46-F3D38B2D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D585C-86B3-4BC6-B6EE-526A0B8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3B241-5807-4CBE-83EB-EF29CD4D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7A73-C227-4E64-B243-022B75C5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CA18F-CB8E-4F96-BC5B-A27E022C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CF19A-6075-42E2-A153-16575AD7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BF2F8-2B07-4650-830A-E3DF67B3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5EFF5-9764-4DE8-885C-84B7F67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94B24-0248-453F-8245-74A27E1F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7BDB1-FE8D-4B51-926B-E0EC59B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AB0D6-A830-486D-8194-DA95A4E8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428E8-C89F-476B-BAED-487C1876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D4F8C-4207-4EEC-9402-F61118BC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1132C-9B6C-494E-A9B5-80A12E2F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A373-06F8-4DB4-8E15-A5B88F1D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C4964-66E5-43D7-925A-6197FE0E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E6A87-3F27-468A-8DE5-83EFB902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79CB6-2243-4657-9658-F37DF02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A05A0-6149-48F0-A282-0C5879AE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A1EFE-6590-4734-AD37-577D73A6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340E7-3D72-4C5A-8BD4-51CE360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4F075-FF82-40D2-A0F3-18856E2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6F2C0-E670-4A7E-AC44-53709DF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C8F52-8587-4703-85E1-89779E29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74385-DFE2-4E12-905F-BEB8B853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00CB-3E7F-4B3C-90A6-6C4A1B79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B3D9E-50C7-4B20-98BC-9606DF6A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4739B-7E4A-454B-80EE-806CA406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A74A5-B0CD-405F-8791-DF6326D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14246-72F9-4942-A5F6-802C4D7C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9E340-9672-461D-A8C5-931BEF9F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3B935-5357-44DA-93EE-1986C5DF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70263-9E76-4680-8C2F-32E9D0D2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AB93C-F597-4DE3-BEF7-4CA298B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B2A36-2F7E-4974-8580-878AE8E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83A02-26F1-427B-8865-5B75B4B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FD2B-8968-4C19-8BA8-F8BB2124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60D84-A49B-471F-8944-27FE6598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5E321-415E-4876-97D2-D00F349A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52AB9-3C48-4BB1-822D-AEFDB021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14815-6371-447F-8217-D4BA059A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D02C9-1C4E-4488-A1A1-8C2A0689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0108A-6416-4DDE-BAE6-C2976F5D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F51D3-2553-4F22-989A-19EE1D79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1DCE6-79A0-406A-97FE-EA7E1190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52290-1D38-4F27-B631-6AA95979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EDCF4-FC6D-4FEC-988E-D14E1C3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F1A-22A3-4984-B9CA-4A2120D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79D4-EA6E-4805-BC0F-0A37195A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A9BA2-069A-42E6-AA26-92266A7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12221-81A4-47D9-8672-1561D1BD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8A013-B603-4A04-BA5C-67B2B8B1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7A2B2-14C9-4224-8370-9F011056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EB41A-7C63-4006-B329-5424CC87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AFCB5-E1BC-4E08-B173-5578601C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2CAD0-B08B-47DC-995A-4FC8BFA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9C77A-5F64-4196-A3F1-D3C7735F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2E584-95D7-40B0-BB80-CCF53E00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173E5-484B-41C3-85A2-705678BB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F574-9344-4B9E-B6A9-457468B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0B7CA-EA22-4936-BAFE-73F141B8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14BABD-3EBE-4B37-9A91-60202E7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A0C49-088A-4F9D-97CE-4809115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1E7321-FBD1-413D-90EB-2352D6A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F959E-A66E-49BF-B5F0-AEA79A92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57FD7-20F1-48C4-8194-447161E0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5CC109-1F84-487F-AE96-62BCD394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28C9F-CA06-4E50-A570-A8F0BC84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03562-B1B5-4987-8567-40E3C106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44758-0537-4249-A669-9CA1FFAC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9229-0C9C-4DE3-9B92-6332C52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EBC49A-D3EB-4D91-A61E-4ACACEE4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60662-D696-4487-BDD3-26FBF01D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7B81B-3D6F-4F1B-9678-9A1C6DD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ECF34-2D16-4A0E-A03C-BB5C9E6D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1C174-B83C-401E-92B2-E63350E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38E71-CC44-493C-B179-2FB300B9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0F233-CB0B-44F0-99EB-590FE06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FA221-B5F3-4BF9-83D9-B1FAA503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0D0AA-E16D-4840-86B0-7D019778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854FF-CE2C-4F28-8E7F-5EEC21D4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B8F1-63F2-4AD8-A1C9-89DAB53F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38D19-8347-497F-98D9-77C8B06E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29848-20A0-4C0E-A615-66FF56FA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9F286-7A84-4FCC-B9C2-A36C27CB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7326D-3A43-499B-ADBF-0A4CEB7D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10275-930A-4573-974E-DCBB7C73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B112C-375B-4270-B660-78C1082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D74AC-AB1B-4A25-BAE8-A6773F4E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273B3-BC72-4757-8429-FFCD0C9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4178E-28B0-4C74-8397-32E4AEBB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F255B2-F0C1-444C-BE7F-EDBBA658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5A20-0EAA-481C-9310-54914339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9FE24-D085-4A91-A2D5-243DEB0A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D202E-DF09-489D-991E-2473B13D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F639F-0E25-424B-BA41-135FE62E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81A4F7-3187-4FAD-9447-3EDBCB45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50D8D-F172-4292-A0CC-38AB670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BDE64C-3F03-4D0A-AD4D-11FF4D60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F151D-40C8-432F-8AEC-43C0D9F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24F84-B0C1-4AD1-926A-BE9C5B9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41F9A-EA6B-454C-BAA2-0B0EEFC9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32E2A-598B-4A25-B814-5244E490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6D6A-24B9-4558-8F2E-FBEB9610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D480B-2B10-4EDF-A539-F7B087F4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C592A-6FCB-41EF-A8EB-D67F2AA0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7C792-0DF9-4CF9-889A-73AF4708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AAD3-FB04-40D8-A61B-27F593E2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446BD-9E56-41E4-868B-04F5E53B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F286-D766-42C4-97E0-C87194D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605F-9712-4736-88AC-B60894C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C27-D543-492E-A239-6CD833A0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FE00-B2D0-43F2-B8C6-B9939993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86C3-5DB0-41C3-BB76-424EFA1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C039-1018-4447-8AAB-26DED1C9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33456-1BBA-4241-953E-6CC4B30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02DC-D69B-4041-86FA-5258EAB3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937E-7306-4971-884B-A20604B1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4C26-24EE-4209-9360-C7708372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23CA-479A-4AD9-A9E9-E4AEBE41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17807-0D60-40C1-83E0-11859952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AC83-F58F-44C0-988E-512F4A01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81F-4D1E-4A36-8104-311E25B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AC43-A136-4091-AE2A-D339FCB4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764C3-AF78-49CB-AB58-7BCBFA0D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DD723-D5DD-40A8-A3B3-96AF0F5C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2765-6B2A-4EDD-97A6-CB79A74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D778-8B9C-4B81-8106-9625632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A33B0-B8B4-42FD-8077-6EA6B98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6D72-FBE7-445A-8876-54113E2B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98C3-6E55-4CAE-8AB9-FA1D8BD7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F7B6-6BBF-4C3A-9A1C-EE9A3714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9DD3-BC93-4134-9AAC-63C89585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A55-E799-4C3B-9E0E-D579309C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82C7-1544-4B90-A203-B5EBF875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5E17-422E-4FD4-B17B-01E97EEE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21B8-88F2-4103-B758-6CF61F65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3ECD-9570-4C86-BF3C-CCFC46FA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0C76-B919-4648-8D29-D19A739E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9E971-196A-4083-9103-CD7A0D8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CB08-A945-4437-9909-317FEBD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3118-9936-4951-96EC-C4EE2F7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D3F6-17D4-4755-AC7B-DFDEBD49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7C14-DF5D-47B0-B783-E1AF12BF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FA1-ADEE-4B72-BF4F-E2EF67ED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5AF4-BFA4-4DB4-91B5-732CB92E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4A70-8195-4AD2-8422-02EE6C9D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07A30-8026-45B4-968A-77D8DBFD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85D7-3608-4343-9913-536D668E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3DC18-D579-408A-8D3D-68248789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11C8-768C-4FFC-AB2F-E369743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AC00-4E94-45D8-BA0A-E5FFC8E4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C541F-CA3C-4D05-A11A-4BD516E6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9FA54-4917-472B-82CA-E8834588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B452E-FEC6-470F-8398-892650E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C0D-F6F6-493D-9772-AEE6401B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2D52A-F87A-49F7-8411-1F1CA00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87B5C-F8FD-4056-8FFF-30475484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A168B-7949-4E10-BCCD-97485D66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A151-395D-49B8-804C-ED53D0FF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C3FDC-ED70-4575-936C-51FA7160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03949-7B24-43A8-8B12-DA0B453F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4BAF-2F72-4415-99DD-D58BCA75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281D3-1978-4993-98AA-8E43813D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82FAF-0069-4A14-8CCA-11BD7F4F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973F3-61E4-4E25-9250-BDA018D0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861-37CC-40DF-9761-F0C34AD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4E1E0-9DE6-4512-AE71-BA4F251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A79DC-5A63-4829-99BA-4153F51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44518-AA3B-446E-B573-5F3DA80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F88A-4792-43FB-A24A-7309EB79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CC67C-B69A-4CB3-97D1-BA7E6AD9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1804C-C4C2-48C3-BF6C-2822DFA0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72F56-D747-4B3F-9AD6-E23D27B4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FB951-D380-4DC0-9777-A52FDD02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7B9BE-7F12-4AEF-ABB3-21D2979C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5A49-96E4-42F7-8566-25633C3D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A83-39CB-456A-BC04-DF3257A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772FD-41F2-4486-9344-4E167FF6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427D2-1F7A-450D-8100-BB49A20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95734-F0CC-4AC4-9824-64E4EE4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28625-C474-443A-A002-860A480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D4C6-108A-45ED-BF0B-B9586E3A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C9DED-7470-4A8F-9842-167A5FDA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D41EF-BE8C-4601-B2B7-42DB5EEC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0A1E9-B950-4231-8B11-D2906396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1CF66-354E-43AB-B6E6-DFFB3CDA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4705E-0360-428F-9E9B-1FD6EED0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E2BC-5E60-4376-90D3-29D8A4349B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5921-D72A-4965-8A38-F974413D46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490A-A3AD-4013-AE20-3E20B7D55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A6F7-CA6C-46A7-9382-51DD02025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0AE-77F5-4D0D-81FC-7B1299D464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6D8-C246-42DA-8F1D-12ECAFBA8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980F-8142-4075-B6A0-F504CDF59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4A83-27AA-4B62-A218-E969B39B14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1338-FA8E-4F15-AC68-5678EADCD7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A434-52B3-4FDB-8B59-916958345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AAC1-573D-4E02-B9F6-2DC0D16EF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98A-8F81-4889-B990-38A7D5C11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A77B-E2D1-4925-B737-ED82D074D6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3714-912C-419C-8117-773810DB39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A2F9-1CC9-4BED-A743-913F89A626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5A34-1821-4239-BEE0-B91732AF53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1B4F-2523-4D41-ACB9-FB0F086B23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4A5A-5436-444C-BD99-B6E7209D51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D026-6828-4B07-B218-CC91C7F3A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1FE7-FF6F-42F1-B50E-CD63411F2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2016-4F6F-46C0-8105-C58B94792A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8283-1727-494F-A231-3921DC5F6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1948-3AF1-44C7-84DE-02D57C8C6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597-1501-4ADF-AEDF-C9B4BE1C9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3F07-8946-4154-B0DB-3C1286D4C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9A31-042B-4E35-B2D2-3644BB0A6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87C3-F621-4504-A247-D1C72CBB06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7D8-38A7-44CA-8F8B-B9E313586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0E32-CACB-4703-8A2A-9132B1F8F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A496-02CC-41C7-A07E-676C7458A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7B0E-FD10-422F-AA54-CC7C831FF2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C7D4-9337-44AE-9361-361A52D4E3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4116-5D9A-4105-9E42-CDF5608268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7F6B-8DE3-46E3-9080-27AF64120E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3835-F8DD-439C-82B6-BB39B86E3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F1AE-BF05-43EE-A278-EED979C21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2533-7B27-479A-BDEA-E7570D2CD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0E0E-AAC5-41B7-BEDE-52AAB224C8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4709-0BA1-4DEF-9630-03CFDB4C41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6BC7-7B7D-44DE-A160-66264116EA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66720" y="2843280"/>
            <a:ext cx="60105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69633" descr=""/>
          <p:cNvPicPr/>
          <p:nvPr/>
        </p:nvPicPr>
        <p:blipFill>
          <a:blip r:embed="rId1"/>
          <a:stretch/>
        </p:blipFill>
        <p:spPr>
          <a:xfrm>
            <a:off x="233280" y="623880"/>
            <a:ext cx="86774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8609" descr=""/>
          <p:cNvPicPr/>
          <p:nvPr/>
        </p:nvPicPr>
        <p:blipFill>
          <a:blip r:embed="rId1"/>
          <a:stretch/>
        </p:blipFill>
        <p:spPr>
          <a:xfrm>
            <a:off x="533520" y="1324080"/>
            <a:ext cx="8076960" cy="4209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611280" y="2622600"/>
            <a:ext cx="813744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11280" y="3184560"/>
            <a:ext cx="813744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11280" y="386064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539640" y="4437000"/>
            <a:ext cx="813780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539640" y="5013360"/>
            <a:ext cx="8137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7585" descr=""/>
          <p:cNvPicPr/>
          <p:nvPr/>
        </p:nvPicPr>
        <p:blipFill>
          <a:blip r:embed="rId1"/>
          <a:stretch/>
        </p:blipFill>
        <p:spPr>
          <a:xfrm>
            <a:off x="1023840" y="981000"/>
            <a:ext cx="7096320" cy="222876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67586" descr=""/>
          <p:cNvPicPr/>
          <p:nvPr/>
        </p:nvPicPr>
        <p:blipFill>
          <a:blip r:embed="rId2"/>
          <a:stretch/>
        </p:blipFill>
        <p:spPr>
          <a:xfrm>
            <a:off x="279360" y="3476520"/>
            <a:ext cx="8685360" cy="20401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4313160" y="1268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697880" y="1413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313160" y="20750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7164360" y="223344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1979640" y="3803760"/>
            <a:ext cx="107964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4903920" y="3789360"/>
            <a:ext cx="107928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7740720" y="3803760"/>
            <a:ext cx="107928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0"/>
          <a:stretch/>
        </p:blipFill>
        <p:spPr>
          <a:xfrm>
            <a:off x="1835280" y="459576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1"/>
          <a:stretch/>
        </p:blipFill>
        <p:spPr>
          <a:xfrm>
            <a:off x="4932360" y="459576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2"/>
          <a:stretch/>
        </p:blipFill>
        <p:spPr>
          <a:xfrm>
            <a:off x="8388360" y="45813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7040" y="1438200"/>
            <a:ext cx="86299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485640" y="1628640"/>
            <a:ext cx="8172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8373" descr=""/>
          <p:cNvPicPr/>
          <p:nvPr/>
        </p:nvPicPr>
        <p:blipFill>
          <a:blip r:embed="rId1"/>
          <a:stretch/>
        </p:blipFill>
        <p:spPr>
          <a:xfrm>
            <a:off x="628560" y="1785960"/>
            <a:ext cx="7886880" cy="32860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900000" y="3673440"/>
            <a:ext cx="705672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826920" y="4379760"/>
            <a:ext cx="705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7352" descr=""/>
          <p:cNvPicPr/>
          <p:nvPr/>
        </p:nvPicPr>
        <p:blipFill>
          <a:blip r:embed="rId1"/>
          <a:stretch/>
        </p:blipFill>
        <p:spPr>
          <a:xfrm>
            <a:off x="642960" y="1395360"/>
            <a:ext cx="7858080" cy="4067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826920" y="472428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6324" descr=""/>
          <p:cNvPicPr/>
          <p:nvPr/>
        </p:nvPicPr>
        <p:blipFill>
          <a:blip r:embed="rId1"/>
          <a:stretch/>
        </p:blipFill>
        <p:spPr>
          <a:xfrm>
            <a:off x="633240" y="800280"/>
            <a:ext cx="7877520" cy="52578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1116000" y="2736720"/>
            <a:ext cx="374328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971640" y="3414600"/>
            <a:ext cx="374328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374328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971640" y="4667400"/>
            <a:ext cx="374328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900000" y="5345280"/>
            <a:ext cx="453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5300" descr=""/>
          <p:cNvPicPr/>
          <p:nvPr/>
        </p:nvPicPr>
        <p:blipFill>
          <a:blip r:embed="rId1"/>
          <a:stretch/>
        </p:blipFill>
        <p:spPr>
          <a:xfrm>
            <a:off x="290520" y="1486080"/>
            <a:ext cx="8562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4276" descr=""/>
          <p:cNvPicPr/>
          <p:nvPr/>
        </p:nvPicPr>
        <p:blipFill>
          <a:blip r:embed="rId1"/>
          <a:stretch/>
        </p:blipFill>
        <p:spPr>
          <a:xfrm>
            <a:off x="652320" y="1662120"/>
            <a:ext cx="7839360" cy="35337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6948360" y="2722680"/>
            <a:ext cx="10083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2771640" y="3573360"/>
            <a:ext cx="100836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804000" y="357336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2771640" y="4508640"/>
            <a:ext cx="100836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003640" y="4508640"/>
            <a:ext cx="100836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6804000" y="4508640"/>
            <a:ext cx="1008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628560" y="2471760"/>
            <a:ext cx="7886880" cy="1914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71640" y="3125880"/>
            <a:ext cx="77040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7704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9:4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